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B099-0014-4A89-8020-C8936FC90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71E-52C6-4A4F-BFB0-3C18B84FE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48B7-2916-4C90-8E3F-111F06426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1E45-9B4E-45EC-BE72-33B3C5887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125B-2B86-41EB-B74A-55EA7AE4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44E2-2736-4F37-9779-48263C31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BEED-4E7F-4B6F-AD5A-6290393A0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E61-DCAF-483A-9CF1-2DFC09E61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7F71E-C289-4244-8BF3-F1B9DC7F4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8F0-334A-49EE-8714-ACD3300C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664-DF12-4905-A1C9-63E64E22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42C1-8D0A-4AC9-ADE0-B35EB62B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301-5ED8-4037-BBCE-CD99B32C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F86D-ED78-4164-95A7-FC4709DF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40E4-433F-40AE-BF3A-6F42D3C4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1110-335F-4C3A-8C6C-E07D80DD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6B60-9CC6-452E-B37E-A3679540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14DE-53D7-4E36-801F-A48355D0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FDC4-F4A1-40F1-B0DE-F40F8977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B82D-E562-47F9-81DD-F78958E6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78E-4678-4B9B-848E-5A003043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18F2-C334-4956-86D8-E73C479B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A494-B68D-416D-AF55-FD505C50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56C4-AADA-4165-A843-5A01D80B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E301-F8C0-4FCA-8B0B-BF9D8107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9A46-29D5-4817-A6F9-B136A0BF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F82A-C0BD-4DD0-AE23-9BE4EF24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581-E1B3-493D-A8F8-8D5E0B99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E57-BECD-4195-8BFE-E09AAA60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1BB-97D5-4CB7-9E53-A4223134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C1B-D760-4D48-8212-61A194B6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4B1F-88FD-4BB4-8181-CFFB3620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792-1362-4E3C-89C6-D822F7CC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09C1-2650-439C-9C28-7BA8C592540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C434-8AE2-4628-8BD8-D922B5E6664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dvanced-training.org.uk/" TargetMode="External"/><Relationship Id="rId2" Type="http://schemas.openxmlformats.org/officeDocument/2006/relationships/hyperlink" Target="http://www.complexneeds.org.uk/" TargetMode="External"/><Relationship Id="rId3" Type="http://schemas.openxmlformats.org/officeDocument/2006/relationships/hyperlink" Target="http://www.idponline.org.uk/" TargetMode="External"/><Relationship Id="rId4" Type="http://schemas.openxmlformats.org/officeDocument/2006/relationships/hyperlink" Target="http://www.nasentraining.org.uk/training-pack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301680"/>
            <a:ext cx="806616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AN OVERVIEW OF THE NEW SEN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umn Term 20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ented by the SEN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children"/>
          <p:cNvPicPr/>
          <p:nvPr/>
        </p:nvPicPr>
        <p:blipFill>
          <a:blip r:embed="rId1"/>
          <a:stretch/>
        </p:blipFill>
        <p:spPr>
          <a:xfrm>
            <a:off x="2987640" y="1844640"/>
            <a:ext cx="38894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784872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FINITION OF SEN PROVI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15640" y="1557360"/>
            <a:ext cx="7777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rovision is that which is something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ditional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fferent fro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which  is provided for the majority of pup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goes beyond the differentiated approaches and learning arrangements normally provided as part of high quality teach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nclud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sonable adjustmen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ing made for disabled pupils, to ensure access to the curriculum, extra-curricular activities, facilities and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1378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N IS EVERY TEACHERS’ RESPONS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71280" y="1628640"/>
            <a:ext cx="784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N Code of Practice (0-25) 2014 sta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ry teacher is responsible and accountable for the progress and development of all pupils in their class, wherever or whoever the pupils are working with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includes SEND pupils, who may be working with a specialist teacher, external professional or a teaching assistant, on an additional interven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ry teacher is expected to have an understanding of the strategies to identify &amp; support vulnerable pupils, and knowledge of the special educational needs most frequently encounter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2868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PROVISION: SEN SUPPOR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Support for those who don’t have an EHC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uated approach – 4 types of action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range of information gathered to establish SEN pupil’s needs (learning &amp; well-be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parents informed about pupils need for SEN Support; Class teacher, SENCO, parent &amp; pupil agree upon additional provision and expected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lass teacher responsible for SEN pupils assessment for learning, progress, curriculum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class teacher reviews impact of SEN support termly, with parent/pupil &amp; revises SEN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N PROVISION: EDUCATION, HEALTH AND CARE (EHC) PLAN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557360"/>
            <a:ext cx="82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HC Plans 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hose with more complex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ed formally annually – using person- centred planning and the structured convers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comes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about how services will work together to support the outcomes &amp; meet the pupil’s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 &amp; parent focused, putting them at the centre of decision making about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ing information about how the parents personal budget for SEN is to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PLICATIONS OF THE SEN CHANGES FOR EVERY TEACHER &amp; 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628640"/>
            <a:ext cx="82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 teachers and TAs mu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 where SEN pupils are in their learning &amp; developmen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to the views and insights of parents and the SEN pupil to inform planning for provisio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high expectations and ambitions for SEN pupil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stretching targe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 SEN pupil progress towards meeting target set every ter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regular assessments of SEN pupil progres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301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PLICATIONS OF THE SEN CHANGES FOR EVERY TEACHER &amp; 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71280" y="1557360"/>
            <a:ext cx="784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 teachers and TAs mu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the additional/different provision under review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sure intervention approaches used are evidence-based and are having a positive impact on SEN pupil progres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 and review SEN support, in partnership with parents/carers’, the SEN pupil &amp; SENC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est more specialist assessments where a SEN pupil appears to be making inadequate progress, and falling considerably behind their pe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THE ROLE OF THE SEN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8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lea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f SEN policy &amp;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oviding professional advice and guidance to staff, on the graduated approach to SEN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bui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contributing to the professional development of teachers and TAs in meeting the four areas of 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mmissioning support from external ag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Assur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evaluating the impact of SEN Support and EHC Plan provision, across the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o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r SEN pupils and their parents/carers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GNPOSTING TO FURTHER SEN RESOURC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42920" y="1628640"/>
            <a:ext cx="78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anced training materials for autism; dyslexia; speech, language and communication; emotional, social and behavioural difficulties; &amp; moderate learning difficulties 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advanced-training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 materials for complex n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complexneeds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sion Development Programme (ID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idponline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sen resources: A Whole School Approach to Improving Access, Participation and Achie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nasentraining.org.uk/training-p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LECTION &amp; NEXT STE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69800" y="1628280"/>
            <a:ext cx="7313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y 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ill be your first priority for action following this presenta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YNOPSIS OF SES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&amp; Disability legis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different in the new SE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rifying SEND terminology, areas of SEN and 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provision under the new SEN framework f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Support; and Education, Health &amp; Care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ications of the SEN changes for Every Teacher and Teaching Assi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CO ro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posting to useful SEN resourc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&amp; DISABILITY LEGIS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16000" y="155736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ildren and Families Act 201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Educational Needs Code of Practice (0-25) 201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quality Act 201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01680"/>
            <a:ext cx="8425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WHAT IS DIFFERENT IN THE NEW SEN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3880" y="1628640"/>
            <a:ext cx="8178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covers 0-25 age ran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pupils &amp; their parents to inform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support (replacing Action and Action Pl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s replaced by an individual plan, outlining targets, expected outcomes, SEN provision made &amp; its impa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Health &amp; Care Plans replace SEN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Health &amp; Care services working closer together to provide additional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01680"/>
            <a:ext cx="860436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EFINITION OF S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ld has SEN if they have a learning difficulty or disability which calls for special educational provision to be made for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ool age child has a learning difficulty or disability if they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ater difficulty in learning than their same age pe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79930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EFINITION OF DISABILITY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ld has a disability if they have a physical or mental impairment, and the impairment ha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tial and long-ter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effect on their ability to carry out normal day-to-day activ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ability prevents or hinders the child from making use of educational facilities of a kind generally provided for others of the same 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820872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DENTIFICATION – 4 AREAS OF S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N Code of Practice (0-25) 2014 identifies four areas of SEN (high-incidence S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&amp; inter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Autistic spectrum, SLCN, SpLD, sensory, physical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gnition &amp; learning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MLD, SLD, SpLD, PM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, mental &amp; emotional health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ADD, ADHD, Austistic spectrum, bipolar disorder, self harm, eating disorders, substance abuse, de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ory and/or physic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I, VI, MSI, P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301320"/>
            <a:ext cx="845964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PUPILS – ADEQUATE PROGR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the right SEN provision, SEN pupils are expected to mak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equate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equate progres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a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 makes similar progress to their peers, starting from the same bas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es or betters the SEN pupil’s previous rate of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s the attainment gap between the SEN pupil and their pe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s the attainment gap growing w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2803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IGH QUALITY TEACHING FOR AL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00000" y="155736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High quality teach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all featu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s on SEN pupils prior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s are active learners &amp; extend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multi-sensory learning approaches (VA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/TA model good learning &amp; how to lea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use is made of open questioning, thinking aloud, explanation, and thinking time is gi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pils talk about their learning, &amp; work in pairs, groups, whole class, and independ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iculum materials match pupils’ reading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ing broken down into small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3:39:07Z</dcterms:created>
  <dc:creator>Rita Cheminais</dc:creator>
  <dc:description/>
  <dc:language>en-US</dc:language>
  <cp:lastModifiedBy>mdavey</cp:lastModifiedBy>
  <dcterms:modified xsi:type="dcterms:W3CDTF">2014-03-03T09:07:04Z</dcterms:modified>
  <cp:revision>42</cp:revision>
  <dc:subject/>
  <dc:title>LEARN TO LISTEN TO THE PUPIL VOICE</dc:title>
</cp:coreProperties>
</file>